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DEF-2C15-45D5-A788-AC89D8A5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0456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DFF-50B2-4D21-8576-BC3E669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81F-35D7-4EB7-BD85-EFE22232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A24-EC4A-42F0-A73D-F9F113CF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1E27E-77B1-4063-A0A1-6A2841026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591920"/>
            <a:ext cx="8001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E360-0A2A-4802-8543-50C1D6F21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8001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19F8-8E7E-4B79-8C71-BCD1773FD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7D0C-D9B5-4ADD-8C81-E8358E33CC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7A13E-B7BA-4EC1-8A92-8F9B5E7A1F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82800" y="-85680"/>
            <a:ext cx="71784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EE3AC-060B-4CEA-8E99-28020A968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E454-4AA0-4271-9B02-029763A0C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591920"/>
            <a:ext cx="8001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812-09EC-4E86-B588-4F89491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F653-CCB6-469F-ADE3-1A1BF576C7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8D16E-9CB4-42DF-87FE-E23F46C82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0456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5C76D-0CE3-4EC9-BB8C-2621FB87B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2D37-757F-45F8-BA23-D062CEEC9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59192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04560"/>
            <a:ext cx="25761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82EE-A1DC-4CFF-AAC9-9E2CD1C67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8001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869-223C-4E89-BBBD-B90AA625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3EC-45FB-4EDF-95E2-2A8095D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205-742F-4A0C-9738-4DC6C07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82800" y="-85680"/>
            <a:ext cx="71784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3BC-06F8-4F74-994A-7FC13809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402-0F8A-4FE1-A2D9-6322792B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0456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4B2-E5A1-40C0-BF10-0615B14E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591920"/>
            <a:ext cx="39042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04560"/>
            <a:ext cx="8001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353-2A74-4FA0-8732-9FE37D4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91920"/>
            <a:ext cx="8001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58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15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0188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18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188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893E-2193-4B32-84B7-3193D7C90A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33200" y="128520"/>
            <a:ext cx="403200" cy="40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510760" y="133200"/>
            <a:ext cx="529920" cy="4050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43680"/>
            <a:ext cx="9144000" cy="171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b2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480" y="5079960"/>
            <a:ext cx="9144000" cy="114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504800"/>
          </a:xfrm>
          <a:prstGeom prst="rect">
            <a:avLst/>
          </a:prstGeom>
          <a:gradFill rotWithShape="0">
            <a:gsLst>
              <a:gs pos="0">
                <a:srgbClr val="a3b2c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D47-D4AA-4DFF-9975-2C62ACC391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289320" y="2244600"/>
            <a:ext cx="5624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86080"/>
            <a:ext cx="9144000" cy="114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360" y="168120"/>
            <a:ext cx="935280" cy="714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89320" y="2244600"/>
            <a:ext cx="5624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Условия и факторы развития малого предпринимательства в регионах Росси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36560" y="51811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оклад Президента Общероссийской общественной организации малого и среднего предпринимательства «ОПОРА РОССИИ» С.Р.Борисова на конференции «Развитие малого и среднего бизнеса на Кубани»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27 мая 2005 г., г. Краснодар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ктуальные рис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4280" y="1170000"/>
          <a:ext cx="8572680" cy="49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170000"/>
                    <a:ext cx="857268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6A5-C89A-455F-A9A6-D4015F68C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0080" y="-133560"/>
            <a:ext cx="7161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осударственная политика по развитию МП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6600" y="1368360"/>
            <a:ext cx="1284480" cy="766800"/>
          </a:xfrm>
          <a:custGeom>
            <a:avLst/>
            <a:gdLst>
              <a:gd name="textAreaLeft" fmla="*/ 0 w 1284480"/>
              <a:gd name="textAreaRight" fmla="*/ 1284840 w 128448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e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е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0"/>
            <a:endCxn id="128" idx="2"/>
          </p:cNvCxnSpPr>
          <p:nvPr/>
        </p:nvCxnSpPr>
        <p:spPr>
          <a:xfrm flipH="1" flipV="1" rot="5400000">
            <a:off x="1440360" y="3903840"/>
            <a:ext cx="869040" cy="1400760"/>
          </a:xfrm>
          <a:prstGeom prst="bentConnector3">
            <a:avLst>
              <a:gd name="adj1" fmla="val 84997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129" name=""/>
          <p:cNvGrpSpPr/>
          <p:nvPr/>
        </p:nvGrpSpPr>
        <p:grpSpPr>
          <a:xfrm>
            <a:off x="1630080" y="3494160"/>
            <a:ext cx="1775880" cy="675720"/>
            <a:chOff x="1630080" y="3494160"/>
            <a:chExt cx="1775880" cy="675720"/>
          </a:xfrm>
        </p:grpSpPr>
        <p:sp>
          <p:nvSpPr>
            <p:cNvPr id="130" name="_s1040"/>
            <p:cNvSpPr/>
            <p:nvPr/>
          </p:nvSpPr>
          <p:spPr>
            <a:xfrm flipH="1">
              <a:off x="1629720" y="3494160"/>
              <a:ext cx="1659960" cy="55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0"/>
            <p:cNvSpPr/>
            <p:nvPr/>
          </p:nvSpPr>
          <p:spPr>
            <a:xfrm flipH="1">
              <a:off x="1684440" y="3554280"/>
              <a:ext cx="1659960" cy="55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 flipH="1">
              <a:off x="1745640" y="3614760"/>
              <a:ext cx="1659960" cy="555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Федер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министер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_s1040"/>
          <p:cNvSpPr/>
          <p:nvPr/>
        </p:nvSpPr>
        <p:spPr>
          <a:xfrm flipH="1">
            <a:off x="1630440" y="2514600"/>
            <a:ext cx="2125440" cy="74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25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Министе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эконом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развития и торгов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30080" y="4402080"/>
            <a:ext cx="1775880" cy="676080"/>
            <a:chOff x="1630080" y="4402080"/>
            <a:chExt cx="1775880" cy="676080"/>
          </a:xfrm>
        </p:grpSpPr>
        <p:sp>
          <p:nvSpPr>
            <p:cNvPr id="134" name="_s1040"/>
            <p:cNvSpPr/>
            <p:nvPr/>
          </p:nvSpPr>
          <p:spPr>
            <a:xfrm flipH="1">
              <a:off x="1629720" y="4402080"/>
              <a:ext cx="1659960" cy="555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40"/>
            <p:cNvSpPr/>
            <p:nvPr/>
          </p:nvSpPr>
          <p:spPr>
            <a:xfrm flipH="1">
              <a:off x="1684440" y="4462200"/>
              <a:ext cx="1659960" cy="555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0"/>
            <p:cNvSpPr/>
            <p:nvPr/>
          </p:nvSpPr>
          <p:spPr>
            <a:xfrm flipH="1">
              <a:off x="1745640" y="4522680"/>
              <a:ext cx="1659960" cy="55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Федер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сл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30080" y="5311800"/>
            <a:ext cx="1775880" cy="675720"/>
            <a:chOff x="1630080" y="5311800"/>
            <a:chExt cx="1775880" cy="675720"/>
          </a:xfrm>
        </p:grpSpPr>
        <p:sp>
          <p:nvSpPr>
            <p:cNvPr id="138" name="_s1040"/>
            <p:cNvSpPr/>
            <p:nvPr/>
          </p:nvSpPr>
          <p:spPr>
            <a:xfrm flipH="1">
              <a:off x="1629720" y="5311800"/>
              <a:ext cx="1659960" cy="55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0"/>
            <p:cNvSpPr/>
            <p:nvPr/>
          </p:nvSpPr>
          <p:spPr>
            <a:xfrm flipH="1">
              <a:off x="1684440" y="5371920"/>
              <a:ext cx="1659960" cy="555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40"/>
            <p:cNvSpPr/>
            <p:nvPr/>
          </p:nvSpPr>
          <p:spPr>
            <a:xfrm flipH="1">
              <a:off x="1745640" y="5432400"/>
              <a:ext cx="1659960" cy="555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Федер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агент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41600" y="896760"/>
            <a:ext cx="2516040" cy="41148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25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Закон о поли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по развитию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2872800" y="1176120"/>
            <a:ext cx="216000" cy="609480"/>
          </a:xfrm>
          <a:custGeom>
            <a:avLst/>
            <a:gdLst>
              <a:gd name="textAreaLeft" fmla="*/ 33480 w 216000"/>
              <a:gd name="textAreaRight" fmla="*/ 189000 w 2160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4680" y="2679840"/>
            <a:ext cx="342720" cy="371160"/>
          </a:xfrm>
          <a:custGeom>
            <a:avLst/>
            <a:gdLst>
              <a:gd name="textAreaLeft" fmla="*/ 53280 w 342720"/>
              <a:gd name="textAreaRight" fmla="*/ 299880 w 342720"/>
              <a:gd name="textAreaTop" fmla="*/ 92880 h 371160"/>
              <a:gd name="textAreaBottom" fmla="*/ 278640 h 37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_s1040"/>
          <p:cNvSpPr/>
          <p:nvPr/>
        </p:nvSpPr>
        <p:spPr>
          <a:xfrm flipH="1">
            <a:off x="1630440" y="1649520"/>
            <a:ext cx="2512800" cy="633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25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Прави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9720" y="5038560"/>
            <a:ext cx="530280" cy="3304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27" idx="2"/>
            <a:endCxn id="140" idx="1"/>
          </p:cNvCxnSpPr>
          <p:nvPr/>
        </p:nvCxnSpPr>
        <p:spPr>
          <a:xfrm flipH="1" rot="16200000">
            <a:off x="1289880" y="5253480"/>
            <a:ext cx="342000" cy="572400"/>
          </a:xfrm>
          <a:prstGeom prst="bentConnector2">
            <a:avLst/>
          </a:prstGeom>
          <a:ln w="9360">
            <a:solidFill>
              <a:srgbClr val="336699"/>
            </a:solidFill>
            <a:miter/>
            <a:head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909720" y="4133880"/>
            <a:ext cx="530280" cy="330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36" idx="1"/>
            <a:endCxn id="146" idx="2"/>
          </p:cNvCxnSpPr>
          <p:nvPr/>
        </p:nvCxnSpPr>
        <p:spPr>
          <a:xfrm rot="10800000">
            <a:off x="1173960" y="4463280"/>
            <a:ext cx="572400" cy="33732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909720" y="3230640"/>
            <a:ext cx="530280" cy="3301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1"/>
            <a:endCxn id="148" idx="2"/>
          </p:cNvCxnSpPr>
          <p:nvPr/>
        </p:nvCxnSpPr>
        <p:spPr>
          <a:xfrm rot="10800000">
            <a:off x="1173960" y="3560040"/>
            <a:ext cx="572400" cy="33264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642960" y="2220840"/>
            <a:ext cx="824760" cy="559800"/>
            <a:chOff x="642960" y="2220840"/>
            <a:chExt cx="824760" cy="559800"/>
          </a:xfrm>
        </p:grpSpPr>
        <p:sp>
          <p:nvSpPr>
            <p:cNvPr id="151" name=""/>
            <p:cNvSpPr/>
            <p:nvPr/>
          </p:nvSpPr>
          <p:spPr>
            <a:xfrm>
              <a:off x="642960" y="2220840"/>
              <a:ext cx="732960" cy="456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ч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680" y="2273400"/>
              <a:ext cx="732960" cy="456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ч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760" y="2323800"/>
              <a:ext cx="732960" cy="456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вод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ч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"/>
          <p:cNvCxnSpPr>
            <a:stCxn id="132" idx="1"/>
            <a:endCxn id="153" idx="2"/>
          </p:cNvCxnSpPr>
          <p:nvPr/>
        </p:nvCxnSpPr>
        <p:spPr>
          <a:xfrm rot="10800000">
            <a:off x="1100880" y="2780640"/>
            <a:ext cx="531000" cy="10692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3"/>
            <a:endCxn id="128" idx="2"/>
          </p:cNvCxnSpPr>
          <p:nvPr/>
        </p:nvCxnSpPr>
        <p:spPr>
          <a:xfrm flipV="1">
            <a:off x="1439640" y="4170240"/>
            <a:ext cx="1135800" cy="12924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3"/>
            <a:endCxn id="132" idx="2"/>
          </p:cNvCxnSpPr>
          <p:nvPr/>
        </p:nvCxnSpPr>
        <p:spPr>
          <a:xfrm flipV="1">
            <a:off x="1439640" y="3262320"/>
            <a:ext cx="1254600" cy="13356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3"/>
            <a:endCxn id="144" idx="1"/>
          </p:cNvCxnSpPr>
          <p:nvPr/>
        </p:nvCxnSpPr>
        <p:spPr>
          <a:xfrm flipV="1">
            <a:off x="1468440" y="1964880"/>
            <a:ext cx="162720" cy="588240"/>
          </a:xfrm>
          <a:prstGeom prst="bentConnector3">
            <a:avLst>
              <a:gd name="adj1" fmla="val 49889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158" name=""/>
          <p:cNvGrpSpPr/>
          <p:nvPr/>
        </p:nvGrpSpPr>
        <p:grpSpPr>
          <a:xfrm>
            <a:off x="4151160" y="2525760"/>
            <a:ext cx="1558800" cy="890640"/>
            <a:chOff x="4151160" y="2525760"/>
            <a:chExt cx="1558800" cy="890640"/>
          </a:xfrm>
        </p:grpSpPr>
        <p:sp>
          <p:nvSpPr>
            <p:cNvPr id="159" name=""/>
            <p:cNvSpPr/>
            <p:nvPr/>
          </p:nvSpPr>
          <p:spPr>
            <a:xfrm>
              <a:off x="4156200" y="2525760"/>
              <a:ext cx="1553760" cy="8906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оритет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а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лот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юдж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51160" y="3129120"/>
              <a:ext cx="154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13120" y="5315040"/>
            <a:ext cx="1620360" cy="788760"/>
            <a:chOff x="3813120" y="5315040"/>
            <a:chExt cx="1620360" cy="788760"/>
          </a:xfrm>
        </p:grpSpPr>
        <p:sp>
          <p:nvSpPr>
            <p:cNvPr id="162" name=""/>
            <p:cNvSpPr/>
            <p:nvPr/>
          </p:nvSpPr>
          <p:spPr>
            <a:xfrm>
              <a:off x="3813120" y="531504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58120" y="535140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4920" y="538956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13120" y="4410000"/>
            <a:ext cx="1620360" cy="788760"/>
            <a:chOff x="3813120" y="4410000"/>
            <a:chExt cx="1620360" cy="788760"/>
          </a:xfrm>
        </p:grpSpPr>
        <p:sp>
          <p:nvSpPr>
            <p:cNvPr id="166" name=""/>
            <p:cNvSpPr/>
            <p:nvPr/>
          </p:nvSpPr>
          <p:spPr>
            <a:xfrm>
              <a:off x="3813120" y="441000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8120" y="444636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04920" y="448452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птим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я (надзор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13120" y="3486240"/>
            <a:ext cx="1620360" cy="788760"/>
            <a:chOff x="3813120" y="3486240"/>
            <a:chExt cx="1620360" cy="788760"/>
          </a:xfrm>
        </p:grpSpPr>
        <p:sp>
          <p:nvSpPr>
            <p:cNvPr id="170" name=""/>
            <p:cNvSpPr/>
            <p:nvPr/>
          </p:nvSpPr>
          <p:spPr>
            <a:xfrm>
              <a:off x="3813120" y="348624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58120" y="352260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04920" y="3560760"/>
              <a:ext cx="1528560" cy="7142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вершенств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й баз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443400" y="5519880"/>
            <a:ext cx="342720" cy="371160"/>
          </a:xfrm>
          <a:custGeom>
            <a:avLst/>
            <a:gdLst>
              <a:gd name="textAreaLeft" fmla="*/ 53280 w 342720"/>
              <a:gd name="textAreaRight" fmla="*/ 299880 w 342720"/>
              <a:gd name="textAreaTop" fmla="*/ 92880 h 371160"/>
              <a:gd name="textAreaBottom" fmla="*/ 278640 h 37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43400" y="3668760"/>
            <a:ext cx="342720" cy="371520"/>
          </a:xfrm>
          <a:custGeom>
            <a:avLst/>
            <a:gdLst>
              <a:gd name="textAreaLeft" fmla="*/ 53280 w 342720"/>
              <a:gd name="textAreaRight" fmla="*/ 299880 w 342720"/>
              <a:gd name="textAreaTop" fmla="*/ 92880 h 371520"/>
              <a:gd name="textAreaBottom" fmla="*/ 278640 h 371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43400" y="4608360"/>
            <a:ext cx="342720" cy="371520"/>
          </a:xfrm>
          <a:custGeom>
            <a:avLst/>
            <a:gdLst>
              <a:gd name="textAreaLeft" fmla="*/ 53280 w 342720"/>
              <a:gd name="textAreaRight" fmla="*/ 299880 w 342720"/>
              <a:gd name="textAreaTop" fmla="*/ 92880 h 371520"/>
              <a:gd name="textAreaBottom" fmla="*/ 278640 h 371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2" idx="3"/>
            <a:endCxn id="159" idx="3"/>
          </p:cNvCxnSpPr>
          <p:nvPr/>
        </p:nvCxnSpPr>
        <p:spPr>
          <a:xfrm flipV="1">
            <a:off x="5433840" y="2971440"/>
            <a:ext cx="277200" cy="946800"/>
          </a:xfrm>
          <a:prstGeom prst="bentConnector3">
            <a:avLst>
              <a:gd name="adj1" fmla="val 182184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8" idx="3"/>
            <a:endCxn id="159" idx="3"/>
          </p:cNvCxnSpPr>
          <p:nvPr/>
        </p:nvCxnSpPr>
        <p:spPr>
          <a:xfrm flipV="1">
            <a:off x="5433840" y="2971080"/>
            <a:ext cx="277200" cy="1870920"/>
          </a:xfrm>
          <a:prstGeom prst="bentConnector3">
            <a:avLst>
              <a:gd name="adj1" fmla="val 182184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4" idx="3"/>
            <a:endCxn id="159" idx="3"/>
          </p:cNvCxnSpPr>
          <p:nvPr/>
        </p:nvCxnSpPr>
        <p:spPr>
          <a:xfrm flipV="1">
            <a:off x="5433840" y="2971440"/>
            <a:ext cx="277200" cy="2775600"/>
          </a:xfrm>
          <a:prstGeom prst="bentConnector3">
            <a:avLst>
              <a:gd name="adj1" fmla="val 182184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 rot="5400000">
            <a:off x="2896560" y="2212920"/>
            <a:ext cx="168480" cy="371160"/>
          </a:xfrm>
          <a:custGeom>
            <a:avLst/>
            <a:gdLst>
              <a:gd name="textAreaLeft" fmla="*/ 26280 w 168480"/>
              <a:gd name="textAreaRight" fmla="*/ 147600 w 168480"/>
              <a:gd name="textAreaTop" fmla="*/ 92880 h 371160"/>
              <a:gd name="textAreaBottom" fmla="*/ 278640 h 37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2896560" y="3197160"/>
            <a:ext cx="168480" cy="371160"/>
          </a:xfrm>
          <a:custGeom>
            <a:avLst/>
            <a:gdLst>
              <a:gd name="textAreaLeft" fmla="*/ 26280 w 168480"/>
              <a:gd name="textAreaRight" fmla="*/ 147600 w 168480"/>
              <a:gd name="textAreaTop" fmla="*/ 92880 h 371160"/>
              <a:gd name="textAreaBottom" fmla="*/ 278640 h 37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108840" y="2459160"/>
            <a:ext cx="2035440" cy="1597320"/>
            <a:chOff x="6108840" y="2459160"/>
            <a:chExt cx="2035440" cy="1597320"/>
          </a:xfrm>
        </p:grpSpPr>
        <p:sp>
          <p:nvSpPr>
            <p:cNvPr id="182" name=""/>
            <p:cNvSpPr/>
            <p:nvPr/>
          </p:nvSpPr>
          <p:spPr>
            <a:xfrm>
              <a:off x="6512040" y="2459160"/>
              <a:ext cx="1287360" cy="1405440"/>
            </a:xfrm>
            <a:custGeom>
              <a:avLst/>
              <a:gdLst/>
              <a:ahLst/>
              <a:rect l="l" t="t" r="r" b="b"/>
              <a:pathLst>
                <a:path w="729" h="868">
                  <a:moveTo>
                    <a:pt x="251" y="811"/>
                  </a:moveTo>
                  <a:cubicBezTo>
                    <a:pt x="454" y="868"/>
                    <a:pt x="651" y="742"/>
                    <a:pt x="690" y="529"/>
                  </a:cubicBezTo>
                  <a:cubicBezTo>
                    <a:pt x="729" y="317"/>
                    <a:pt x="596" y="99"/>
                    <a:pt x="392" y="43"/>
                  </a:cubicBezTo>
                  <a:cubicBezTo>
                    <a:pt x="238" y="0"/>
                    <a:pt x="82" y="61"/>
                    <a:pt x="0" y="19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108840" y="2671920"/>
              <a:ext cx="2035440" cy="1384560"/>
              <a:chOff x="6108840" y="2671920"/>
              <a:chExt cx="2035440" cy="138456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6625080" y="2671920"/>
                <a:ext cx="608040" cy="383040"/>
                <a:chOff x="6625080" y="2671920"/>
                <a:chExt cx="608040" cy="3830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625080" y="2861640"/>
                  <a:ext cx="608040" cy="193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873480" y="2671920"/>
                  <a:ext cx="110880" cy="29340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96000" y="2671920"/>
                  <a:ext cx="110880" cy="29340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44840" y="2671920"/>
                  <a:ext cx="110880" cy="29340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146720" y="3056040"/>
                <a:ext cx="437400" cy="351360"/>
                <a:chOff x="7146720" y="3056040"/>
                <a:chExt cx="437400" cy="3513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146720" y="3270240"/>
                  <a:ext cx="437400" cy="137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95120" y="3056040"/>
                  <a:ext cx="110880" cy="29304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217640" y="3056040"/>
                  <a:ext cx="110880" cy="29304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6108840" y="3508560"/>
                <a:ext cx="20354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редпринимательск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бъединения, в т.ч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траслевые и региональны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6592680" y="3151800"/>
                <a:ext cx="437760" cy="351360"/>
                <a:chOff x="6592680" y="3151800"/>
                <a:chExt cx="437760" cy="351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92680" y="3366000"/>
                  <a:ext cx="437760" cy="137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841080" y="3151800"/>
                  <a:ext cx="110880" cy="29340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663600" y="3151800"/>
                  <a:ext cx="110880" cy="293400"/>
                </a:xfrm>
                <a:custGeom>
                  <a:avLst/>
                  <a:gdLst/>
                  <a:ahLst/>
                  <a:rect l="l" t="t" r="r" b="b"/>
                  <a:pathLst>
                    <a:path w="306" h="907">
                      <a:moveTo>
                        <a:pt x="168" y="864"/>
                      </a:moveTo>
                      <a:cubicBezTo>
                        <a:pt x="165" y="885"/>
                        <a:pt x="180" y="904"/>
                        <a:pt x="201" y="907"/>
                      </a:cubicBezTo>
                      <a:lnTo>
                        <a:pt x="201" y="907"/>
                      </a:lnTo>
                      <a:lnTo>
                        <a:pt x="210" y="907"/>
                      </a:lnTo>
                      <a:cubicBezTo>
                        <a:pt x="231" y="904"/>
                        <a:pt x="246" y="885"/>
                        <a:pt x="243" y="864"/>
                      </a:cubicBezTo>
                      <a:cubicBezTo>
                        <a:pt x="243" y="864"/>
                        <a:pt x="243" y="864"/>
                        <a:pt x="243" y="864"/>
                      </a:cubicBezTo>
                      <a:lnTo>
                        <a:pt x="243" y="268"/>
                      </a:lnTo>
                      <a:cubicBezTo>
                        <a:pt x="243" y="264"/>
                        <a:pt x="246" y="259"/>
                        <a:pt x="251" y="259"/>
                      </a:cubicBezTo>
                      <a:cubicBezTo>
                        <a:pt x="256" y="259"/>
                        <a:pt x="259" y="264"/>
                        <a:pt x="259" y="268"/>
                      </a:cubicBezTo>
                      <a:cubicBezTo>
                        <a:pt x="259" y="268"/>
                        <a:pt x="259" y="268"/>
                        <a:pt x="259" y="268"/>
                      </a:cubicBezTo>
                      <a:lnTo>
                        <a:pt x="259" y="268"/>
                      </a:lnTo>
                      <a:lnTo>
                        <a:pt x="259" y="510"/>
                      </a:lnTo>
                      <a:cubicBezTo>
                        <a:pt x="257" y="525"/>
                        <a:pt x="267" y="538"/>
                        <a:pt x="281" y="539"/>
                      </a:cubicBezTo>
                      <a:cubicBezTo>
                        <a:pt x="296" y="538"/>
                        <a:pt x="306" y="525"/>
                        <a:pt x="304" y="510"/>
                      </a:cubicBezTo>
                      <a:cubicBezTo>
                        <a:pt x="304" y="510"/>
                        <a:pt x="304" y="510"/>
                        <a:pt x="304" y="510"/>
                      </a:cubicBezTo>
                      <a:lnTo>
                        <a:pt x="304" y="223"/>
                      </a:lnTo>
                      <a:cubicBezTo>
                        <a:pt x="306" y="209"/>
                        <a:pt x="296" y="196"/>
                        <a:pt x="281" y="194"/>
                      </a:cubicBezTo>
                      <a:cubicBezTo>
                        <a:pt x="281" y="194"/>
                        <a:pt x="281" y="194"/>
                        <a:pt x="281" y="194"/>
                      </a:cubicBezTo>
                      <a:lnTo>
                        <a:pt x="281" y="194"/>
                      </a:lnTo>
                      <a:lnTo>
                        <a:pt x="24" y="194"/>
                      </a:lnTo>
                      <a:cubicBezTo>
                        <a:pt x="10" y="196"/>
                        <a:pt x="0" y="209"/>
                        <a:pt x="2" y="223"/>
                      </a:cubicBezTo>
                      <a:lnTo>
                        <a:pt x="2" y="510"/>
                      </a:lnTo>
                      <a:cubicBezTo>
                        <a:pt x="0" y="525"/>
                        <a:pt x="10" y="538"/>
                        <a:pt x="24" y="539"/>
                      </a:cubicBezTo>
                      <a:cubicBezTo>
                        <a:pt x="39" y="538"/>
                        <a:pt x="49" y="525"/>
                        <a:pt x="47" y="510"/>
                      </a:cubicBezTo>
                      <a:cubicBezTo>
                        <a:pt x="47" y="510"/>
                        <a:pt x="47" y="510"/>
                        <a:pt x="47" y="510"/>
                      </a:cubicBezTo>
                      <a:lnTo>
                        <a:pt x="47" y="268"/>
                      </a:lnTo>
                      <a:cubicBezTo>
                        <a:pt x="46" y="264"/>
                        <a:pt x="50" y="259"/>
                        <a:pt x="54" y="259"/>
                      </a:cubicBezTo>
                      <a:cubicBezTo>
                        <a:pt x="59" y="259"/>
                        <a:pt x="63" y="264"/>
                        <a:pt x="62" y="268"/>
                      </a:cubicBezTo>
                      <a:cubicBezTo>
                        <a:pt x="62" y="268"/>
                        <a:pt x="62" y="268"/>
                        <a:pt x="62" y="268"/>
                      </a:cubicBezTo>
                      <a:lnTo>
                        <a:pt x="62" y="863"/>
                      </a:lnTo>
                      <a:cubicBezTo>
                        <a:pt x="59" y="884"/>
                        <a:pt x="74" y="904"/>
                        <a:pt x="96" y="906"/>
                      </a:cubicBezTo>
                      <a:lnTo>
                        <a:pt x="96" y="906"/>
                      </a:lnTo>
                      <a:lnTo>
                        <a:pt x="104" y="906"/>
                      </a:lnTo>
                      <a:cubicBezTo>
                        <a:pt x="125" y="904"/>
                        <a:pt x="140" y="884"/>
                        <a:pt x="138" y="863"/>
                      </a:cubicBezTo>
                      <a:cubicBezTo>
                        <a:pt x="138" y="863"/>
                        <a:pt x="138" y="863"/>
                        <a:pt x="138" y="863"/>
                      </a:cubicBezTo>
                      <a:lnTo>
                        <a:pt x="138" y="549"/>
                      </a:lnTo>
                      <a:cubicBezTo>
                        <a:pt x="136" y="540"/>
                        <a:pt x="143" y="531"/>
                        <a:pt x="153" y="530"/>
                      </a:cubicBezTo>
                      <a:cubicBezTo>
                        <a:pt x="162" y="531"/>
                        <a:pt x="169" y="540"/>
                        <a:pt x="168" y="549"/>
                      </a:cubicBezTo>
                      <a:cubicBezTo>
                        <a:pt x="168" y="549"/>
                        <a:pt x="168" y="549"/>
                        <a:pt x="168" y="549"/>
                      </a:cubicBezTo>
                      <a:lnTo>
                        <a:pt x="168" y="549"/>
                      </a:lnTo>
                      <a:lnTo>
                        <a:pt x="168" y="864"/>
                      </a:lnTo>
                      <a:close/>
                      <a:moveTo>
                        <a:pt x="86" y="86"/>
                      </a:moveTo>
                      <a:cubicBezTo>
                        <a:pt x="86" y="38"/>
                        <a:pt x="116" y="0"/>
                        <a:pt x="153" y="0"/>
                      </a:cubicBezTo>
                      <a:cubicBezTo>
                        <a:pt x="190" y="0"/>
                        <a:pt x="220" y="38"/>
                        <a:pt x="220" y="86"/>
                      </a:cubicBezTo>
                      <a:cubicBezTo>
                        <a:pt x="220" y="86"/>
                        <a:pt x="220" y="86"/>
                        <a:pt x="220" y="86"/>
                      </a:cubicBezTo>
                      <a:cubicBezTo>
                        <a:pt x="220" y="134"/>
                        <a:pt x="190" y="172"/>
                        <a:pt x="153" y="172"/>
                      </a:cubicBezTo>
                      <a:cubicBezTo>
                        <a:pt x="116" y="172"/>
                        <a:pt x="86" y="134"/>
                        <a:pt x="86" y="8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98" name=""/>
          <p:cNvCxnSpPr>
            <a:stCxn id="193" idx="2"/>
            <a:endCxn id="172" idx="2"/>
          </p:cNvCxnSpPr>
          <p:nvPr/>
        </p:nvCxnSpPr>
        <p:spPr>
          <a:xfrm rot="5400000">
            <a:off x="5807880" y="2917800"/>
            <a:ext cx="180000" cy="2456640"/>
          </a:xfrm>
          <a:prstGeom prst="bentConnector3">
            <a:avLst>
              <a:gd name="adj1" fmla="val 165330"/>
            </a:avLst>
          </a:prstGeom>
          <a:ln w="9360">
            <a:solidFill>
              <a:srgbClr val="ff66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 flipH="1">
            <a:off x="5984280" y="2685960"/>
            <a:ext cx="507960" cy="371520"/>
          </a:xfrm>
          <a:custGeom>
            <a:avLst/>
            <a:gdLst>
              <a:gd name="textAreaLeft" fmla="*/ 79200 w 507960"/>
              <a:gd name="textAreaRight" fmla="*/ 444600 w 507960"/>
              <a:gd name="textAreaTop" fmla="*/ 92880 h 371520"/>
              <a:gd name="textAreaBottom" fmla="*/ 278640 h 371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3" idx="2"/>
            <a:endCxn id="168" idx="2"/>
          </p:cNvCxnSpPr>
          <p:nvPr/>
        </p:nvCxnSpPr>
        <p:spPr>
          <a:xfrm rot="5400000">
            <a:off x="5346000" y="3379680"/>
            <a:ext cx="1104120" cy="2456640"/>
          </a:xfrm>
          <a:prstGeom prst="bentConnector3">
            <a:avLst>
              <a:gd name="adj1" fmla="val 110469"/>
            </a:avLst>
          </a:prstGeom>
          <a:ln w="9360">
            <a:solidFill>
              <a:srgbClr val="ff66ff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3" idx="2"/>
            <a:endCxn id="164" idx="2"/>
          </p:cNvCxnSpPr>
          <p:nvPr/>
        </p:nvCxnSpPr>
        <p:spPr>
          <a:xfrm rot="5400000">
            <a:off x="4893480" y="3832200"/>
            <a:ext cx="2008800" cy="2456640"/>
          </a:xfrm>
          <a:prstGeom prst="bentConnector3">
            <a:avLst>
              <a:gd name="adj1" fmla="val 106632"/>
            </a:avLst>
          </a:prstGeom>
          <a:ln w="9360">
            <a:solidFill>
              <a:srgbClr val="ff66ff"/>
            </a:solidFill>
            <a:miter/>
            <a:tailEnd len="med" type="triangle" w="med"/>
          </a:ln>
        </p:spPr>
      </p:cxnSp>
      <p:grpSp>
        <p:nvGrpSpPr>
          <p:cNvPr id="202" name=""/>
          <p:cNvGrpSpPr/>
          <p:nvPr/>
        </p:nvGrpSpPr>
        <p:grpSpPr>
          <a:xfrm>
            <a:off x="4556160" y="1542960"/>
            <a:ext cx="1558440" cy="890640"/>
            <a:chOff x="4556160" y="1542960"/>
            <a:chExt cx="1558440" cy="890640"/>
          </a:xfrm>
        </p:grpSpPr>
        <p:sp>
          <p:nvSpPr>
            <p:cNvPr id="203" name=""/>
            <p:cNvSpPr/>
            <p:nvPr/>
          </p:nvSpPr>
          <p:spPr>
            <a:xfrm>
              <a:off x="4560840" y="1542960"/>
              <a:ext cx="1553760" cy="8906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жегод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кл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юдж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56160" y="2089080"/>
              <a:ext cx="154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84640" y="1789200"/>
            <a:ext cx="343080" cy="371520"/>
          </a:xfrm>
          <a:custGeom>
            <a:avLst/>
            <a:gdLst>
              <a:gd name="textAreaLeft" fmla="*/ 53640 w 343080"/>
              <a:gd name="textAreaRight" fmla="*/ 300240 w 343080"/>
              <a:gd name="textAreaTop" fmla="*/ 92880 h 371520"/>
              <a:gd name="textAreaBottom" fmla="*/ 278640 h 371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234120" y="1606680"/>
            <a:ext cx="1125360" cy="630000"/>
          </a:xfrm>
          <a:custGeom>
            <a:avLst/>
            <a:gdLst>
              <a:gd name="textAreaLeft" fmla="*/ 360 w 1125360"/>
              <a:gd name="textAreaRight" fmla="*/ 1126080 w 112536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e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196040" y="4192560"/>
            <a:ext cx="1803240" cy="777600"/>
            <a:chOff x="7196040" y="4192560"/>
            <a:chExt cx="1803240" cy="777600"/>
          </a:xfrm>
        </p:grpSpPr>
        <p:sp>
          <p:nvSpPr>
            <p:cNvPr id="208" name="_s1040"/>
            <p:cNvSpPr/>
            <p:nvPr/>
          </p:nvSpPr>
          <p:spPr>
            <a:xfrm flipH="1">
              <a:off x="7196040" y="4192560"/>
              <a:ext cx="1685520" cy="639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40"/>
            <p:cNvSpPr/>
            <p:nvPr/>
          </p:nvSpPr>
          <p:spPr>
            <a:xfrm flipH="1">
              <a:off x="7251480" y="4261680"/>
              <a:ext cx="1685520" cy="639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0"/>
            <p:cNvSpPr/>
            <p:nvPr/>
          </p:nvSpPr>
          <p:spPr>
            <a:xfrm flipH="1">
              <a:off x="7313760" y="4331520"/>
              <a:ext cx="1685520" cy="638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2520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Субъе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Феде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24040" y="6440400"/>
            <a:ext cx="7572240" cy="306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УБЪЕКТЫ МАЛО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3745440" y="5576040"/>
            <a:ext cx="212760" cy="1458720"/>
          </a:xfrm>
          <a:custGeom>
            <a:avLst/>
            <a:gdLst>
              <a:gd name="textAreaLeft" fmla="*/ 33120 w 212760"/>
              <a:gd name="textAreaRight" fmla="*/ 168120 w 212760"/>
              <a:gd name="textAreaTop" fmla="*/ 363240 h 1458720"/>
              <a:gd name="textAreaBottom" fmla="*/ 1095480 h 1458720"/>
            </a:gdLst>
            <a:ahLst/>
            <a:rect l="textAreaLeft" t="textAreaTop" r="textAreaRight" b="textAreaBottom"/>
            <a:pathLst>
              <a:path w="21600" h="21600">
                <a:moveTo>
                  <a:pt x="3375" y="5382"/>
                </a:moveTo>
                <a:lnTo>
                  <a:pt x="12573" y="5382"/>
                </a:lnTo>
                <a:lnTo>
                  <a:pt x="12573" y="0"/>
                </a:lnTo>
                <a:lnTo>
                  <a:pt x="21600" y="10800"/>
                </a:lnTo>
                <a:lnTo>
                  <a:pt x="12573" y="21600"/>
                </a:lnTo>
                <a:lnTo>
                  <a:pt x="12573" y="16218"/>
                </a:lnTo>
                <a:lnTo>
                  <a:pt x="3375" y="16218"/>
                </a:lnTo>
                <a:close/>
              </a:path>
              <a:path w="21600" h="21600">
                <a:moveTo>
                  <a:pt x="0" y="5382"/>
                </a:moveTo>
                <a:lnTo>
                  <a:pt x="675" y="5382"/>
                </a:lnTo>
                <a:lnTo>
                  <a:pt x="675" y="16218"/>
                </a:lnTo>
                <a:lnTo>
                  <a:pt x="0" y="16218"/>
                </a:lnTo>
                <a:close/>
              </a:path>
              <a:path w="21600" h="21600">
                <a:moveTo>
                  <a:pt x="1350" y="5382"/>
                </a:moveTo>
                <a:lnTo>
                  <a:pt x="2700" y="5382"/>
                </a:lnTo>
                <a:lnTo>
                  <a:pt x="2700" y="16218"/>
                </a:lnTo>
                <a:lnTo>
                  <a:pt x="1350" y="16218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1"/>
            <a:endCxn id="125" idx="0"/>
          </p:cNvCxnSpPr>
          <p:nvPr/>
        </p:nvCxnSpPr>
        <p:spPr>
          <a:xfrm rot="10800000">
            <a:off x="546840" y="2134440"/>
            <a:ext cx="277200" cy="4460040"/>
          </a:xfrm>
          <a:prstGeom prst="bentConnector2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grpSp>
        <p:nvGrpSpPr>
          <p:cNvPr id="214" name=""/>
          <p:cNvGrpSpPr/>
          <p:nvPr/>
        </p:nvGrpSpPr>
        <p:grpSpPr>
          <a:xfrm>
            <a:off x="7262640" y="5207040"/>
            <a:ext cx="1620720" cy="953640"/>
            <a:chOff x="7262640" y="5207040"/>
            <a:chExt cx="1620720" cy="953640"/>
          </a:xfrm>
        </p:grpSpPr>
        <p:sp>
          <p:nvSpPr>
            <p:cNvPr id="215" name=""/>
            <p:cNvSpPr/>
            <p:nvPr/>
          </p:nvSpPr>
          <p:spPr>
            <a:xfrm>
              <a:off x="7262640" y="5207040"/>
              <a:ext cx="1528920" cy="8636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07640" y="5250960"/>
              <a:ext cx="1528920" cy="8636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расле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54440" y="5297040"/>
              <a:ext cx="1528920" cy="863640"/>
            </a:xfrm>
            <a:prstGeom prst="flowChartDocument">
              <a:avLst/>
            </a:prstGeom>
            <a:solidFill>
              <a:srgbClr val="eee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оритет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грамм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юдж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351560" y="5827680"/>
            <a:ext cx="154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8072280" y="4903560"/>
            <a:ext cx="168120" cy="371520"/>
          </a:xfrm>
          <a:custGeom>
            <a:avLst/>
            <a:gdLst>
              <a:gd name="textAreaLeft" fmla="*/ 26280 w 168120"/>
              <a:gd name="textAreaRight" fmla="*/ 147240 w 168120"/>
              <a:gd name="textAreaTop" fmla="*/ 92880 h 371520"/>
              <a:gd name="textAreaBottom" fmla="*/ 278640 h 371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193" idx="2"/>
            <a:endCxn id="215" idx="1"/>
          </p:cNvCxnSpPr>
          <p:nvPr/>
        </p:nvCxnSpPr>
        <p:spPr>
          <a:xfrm flipH="1" rot="16200000">
            <a:off x="6402240" y="4779000"/>
            <a:ext cx="1583280" cy="137160"/>
          </a:xfrm>
          <a:prstGeom prst="bentConnector2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 rot="5400000">
            <a:off x="7572960" y="5576040"/>
            <a:ext cx="212760" cy="1458720"/>
          </a:xfrm>
          <a:custGeom>
            <a:avLst/>
            <a:gdLst>
              <a:gd name="textAreaLeft" fmla="*/ 33120 w 212760"/>
              <a:gd name="textAreaRight" fmla="*/ 168120 w 212760"/>
              <a:gd name="textAreaTop" fmla="*/ 363240 h 1458720"/>
              <a:gd name="textAreaBottom" fmla="*/ 1095480 h 1458720"/>
            </a:gdLst>
            <a:ahLst/>
            <a:rect l="textAreaLeft" t="textAreaTop" r="textAreaRight" b="textAreaBottom"/>
            <a:pathLst>
              <a:path w="21600" h="21600">
                <a:moveTo>
                  <a:pt x="3375" y="5382"/>
                </a:moveTo>
                <a:lnTo>
                  <a:pt x="12573" y="5382"/>
                </a:lnTo>
                <a:lnTo>
                  <a:pt x="12573" y="0"/>
                </a:lnTo>
                <a:lnTo>
                  <a:pt x="21600" y="10800"/>
                </a:lnTo>
                <a:lnTo>
                  <a:pt x="12573" y="21600"/>
                </a:lnTo>
                <a:lnTo>
                  <a:pt x="12573" y="16218"/>
                </a:lnTo>
                <a:lnTo>
                  <a:pt x="3375" y="16218"/>
                </a:lnTo>
                <a:close/>
              </a:path>
              <a:path w="21600" h="21600">
                <a:moveTo>
                  <a:pt x="0" y="5382"/>
                </a:moveTo>
                <a:lnTo>
                  <a:pt x="675" y="5382"/>
                </a:lnTo>
                <a:lnTo>
                  <a:pt x="675" y="16218"/>
                </a:lnTo>
                <a:lnTo>
                  <a:pt x="0" y="16218"/>
                </a:lnTo>
                <a:close/>
              </a:path>
              <a:path w="21600" h="21600">
                <a:moveTo>
                  <a:pt x="1350" y="5382"/>
                </a:moveTo>
                <a:lnTo>
                  <a:pt x="2700" y="5382"/>
                </a:lnTo>
                <a:lnTo>
                  <a:pt x="2700" y="16218"/>
                </a:lnTo>
                <a:lnTo>
                  <a:pt x="1350" y="16218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1" idx="3"/>
            <a:endCxn id="206" idx="0"/>
          </p:cNvCxnSpPr>
          <p:nvPr/>
        </p:nvCxnSpPr>
        <p:spPr>
          <a:xfrm flipH="1" flipV="1">
            <a:off x="7360560" y="1920600"/>
            <a:ext cx="1035720" cy="4674240"/>
          </a:xfrm>
          <a:prstGeom prst="bentConnector3">
            <a:avLst>
              <a:gd name="adj1" fmla="val -64082"/>
            </a:avLst>
          </a:prstGeom>
          <a:ln w="936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16D-A308-4CB2-B3B9-AED5E337EF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принимательский клима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93640" y="1298520"/>
          <a:ext cx="8059680" cy="4879800"/>
        </p:xfrm>
        <a:graphic>
          <a:graphicData uri="http://schemas.openxmlformats.org/drawingml/2006/table">
            <a:tbl>
              <a:tblPr/>
              <a:tblGrid>
                <a:gridCol w="4864320"/>
                <a:gridCol w="3195360"/>
              </a:tblGrid>
              <a:tr h="109836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спект предпринимательского  кли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личество регионов, где ситуация относительно благополуч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рейтинг выше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инансов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0480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ранзакционные из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36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ддержка малого предпринимательства власт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668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отивация ведения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3488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остояние конкурентно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44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ровень безопас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724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мущественные ресур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0360">
                <a:tc>
                  <a:txBody>
                    <a:bodyPr lIns="18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авов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180000" rIns="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A64-9028-4094-8493-19BD31851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приниматели не пойдут в су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0120" y="1633680"/>
          <a:ext cx="8813880" cy="410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33680"/>
                    <a:ext cx="88138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6EE-E3C1-4D62-95CE-D3BD2E647B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ансы отстоять интересы в суд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34880" y="1292400"/>
          <a:ext cx="8469360" cy="465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880" y="1292400"/>
                    <a:ext cx="8469360" cy="46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F0C-54E6-4F95-9132-BA987CF761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оизводственные и офисные площад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04640" y="1308240"/>
          <a:ext cx="8364600" cy="4868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640" y="1308240"/>
                    <a:ext cx="836460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F92-9CBD-4DDE-8B59-C525F9E2C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мешательство в конкурентную сред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104840"/>
          <a:ext cx="8431200" cy="522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04840"/>
                    <a:ext cx="8431200" cy="52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895-893A-48A0-8B2E-A9070607F2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акие контролирующие органы мешаю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04880" y="1063800"/>
          <a:ext cx="8199360" cy="521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880" y="1063800"/>
                    <a:ext cx="81993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8E3-CF29-4B2A-9B68-8F984C832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зят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35120" y="1035000"/>
          <a:ext cx="8362800" cy="52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1035000"/>
                    <a:ext cx="83628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939-4C6F-4B9C-9341-E638168E4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-85680"/>
            <a:ext cx="7178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езопасность бизнес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6440" y="1170000"/>
          <a:ext cx="8269200" cy="501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1170000"/>
                    <a:ext cx="82692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C81-29E1-49EB-A51D-053191129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8:36:36Z</dcterms:created>
  <dc:creator>ОПОРА РОССИИ</dc:creator>
  <dc:description/>
  <dc:language>en-US</dc:language>
  <cp:lastModifiedBy>Климов Виктор</cp:lastModifiedBy>
  <dcterms:modified xsi:type="dcterms:W3CDTF">2005-05-25T15:28:04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